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9E8-210C-4981-910C-03EC05CC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FA2-9F18-4D3F-B897-066CF5F8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1C5-686C-4293-A245-52C4B7C2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A60-97AD-4E9B-A199-748E8F10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49E-09CB-45D4-BCDB-E746E1A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295-3C00-4370-9484-F50D8ED9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42C-C5FF-4458-8E7A-04FE9011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F06-8A9B-4C21-B2D8-DE4B2187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B90-EE24-432D-B80B-C8FDB741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F32-E05D-4516-8C78-C1C89A26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922-4AA7-44B1-94F4-3346E391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829-3818-4B2C-9773-00FEA3D6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7547-4D22-490A-968F-4F52AF261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6019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low of Personnel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5207040" cy="3505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42120" y="62485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Review Flow of Personnel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:  Given the requirement to review the flow of personnel actions, AR 600-8-104, DA PAM 600-8 and a completed DA Form 41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49960" y="6208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the contents of the DA Form 4187 for completeness and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Verified that the routing, submission, signature, and action items for the DA Form 4187 are complete and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7200" y="62485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(co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ed the proper filing of the DA Form 4187 and supporting documents or attach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73640" y="62848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19:22:28Z</dcterms:created>
  <dc:creator>ADG</dc:creator>
  <dc:description/>
  <dc:language>en-US</dc:language>
  <cp:lastModifiedBy>Administrator</cp:lastModifiedBy>
  <cp:lastPrinted>1998-10-23T16:58:58Z</cp:lastPrinted>
  <dcterms:modified xsi:type="dcterms:W3CDTF">2005-07-05T20:13:38Z</dcterms:modified>
  <cp:revision>1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